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07D0-0374-45A3-810B-592209E1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27AB-5F60-4C34-8CA6-A534BF4B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E9ED-D755-415A-8716-AE0276F4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B443-E1F9-4530-BA95-1215B920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FE42-599C-421B-B4DD-99831C2B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24B2-12F6-4F19-9808-797282FF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8078-2C7A-42A6-990F-2D651972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5D78-449F-490A-B777-BB44214F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7A3F-C7DE-4F90-BA4F-0A909978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C16D-D003-4E4A-8D00-ADD72EBE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2CA9-64FC-4C04-9E1A-C9D9896A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5847-62F7-46C3-B6C9-EBDAA0A7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7549-52D2-4C86-9D59-3FF4DEFB6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3-5 da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219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change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52388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Reversible physical changes, they are NOT changes from one substance to a new subs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20574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changes take place when a substance changes fro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e state of mat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n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3353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6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mon phase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3716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Melting = solid gains energy (temp), causing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cules to vib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205740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elting point (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) causes molecules to overco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ttractions and move away (bonds break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27432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elting is complete when all molecules have gain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ough energy to move a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34290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Freezing  = opposite of melting, but at same temp (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37339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lecules get drawn into orderly arrangement because attractions of molecules take eff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44197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Vaporization = liquid to gas phase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48006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bsorbs energy in order to change ph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5181480"/>
            <a:ext cx="6553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othermic process = absorbs energy from another object: example mel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othermic = system releases energy to i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s EX: free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447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2 types of vapor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17524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Evaporation:  the process by which the substan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from a liquid to a gas at temps lo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the boiling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28195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lower levels in a fish tan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32004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Boiling: vaporization which takes place when boiling substance changes to a gas (vap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39625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boiling pot of water left on the stove to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…no more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Condensation: phase change in which a substan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from a GAS to a VAPOR or LIQ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14479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xothermic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18288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mirror in the bathroom appears cloudy after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 shower (water condenses on the mirr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25909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glass of ice tea after a few minutes appea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w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3276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ublimation: phase change in which a substance chang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solid to a gas or vapor without changing to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quid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4197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ndothermic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4876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dry 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Deposition: gas vapor changes directly to a solid withou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changing to a liq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17524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xothermic phas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22096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reverse of subl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66688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: the temperature of a substance does no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during a phas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Boiling water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4:22:24Z</dcterms:created>
  <dc:creator>Farwell Area Schools</dc:creator>
  <dc:description/>
  <dc:language>en-US</dc:language>
  <cp:lastModifiedBy>Farwell Area Schools</cp:lastModifiedBy>
  <dcterms:modified xsi:type="dcterms:W3CDTF">2009-01-26T19:53:22Z</dcterms:modified>
  <cp:revision>8</cp:revision>
  <dc:subject/>
  <dc:title>Note guide 3-5 day 1</dc:title>
</cp:coreProperties>
</file>